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C44-C839-4A08-96C7-91BE7E47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15D-9E7E-43DB-A03D-D0F1098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D91-AEF1-4AEF-A0B1-423A7A3A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545-0D58-4D37-9F4A-1FB8FC5E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757C-B856-4B53-8F6E-92310BAB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F22-03AE-4A1E-8855-D2E314F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C53F-C20C-4868-B9BB-944B36CA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EEE0-EFED-470F-855D-FB47809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D13-B08B-4C66-91F8-8A6230F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D180-7580-4315-B6AA-F00C859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EEA-2222-4A5A-AFFA-D5DA178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25B-9431-4431-A7AE-8653718B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BFFC-887B-4CD5-B0E2-F2FA5BA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8A30-873E-4B76-993E-5B2C0AE9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A0FD-0BE0-46B6-9316-C32AE98B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AEE3-8A38-44C8-A3F9-DBA660FE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A3DB-1E34-485B-9E74-AF663475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859-58E0-4B03-988A-3B0D9892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729-CF7D-463D-8874-250010C6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A89-12EF-469A-AD42-891E1BA5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1EA-8750-4E76-83F3-C9CF52E9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C5F-C2D2-4133-B9A0-C275A42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2C9-D1D7-4592-BFD5-5F97F84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8F2-6B10-440C-8ED9-3667403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4A3-1C01-4911-BAFF-20EDC4F4C32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085-01F1-442C-AADE-C793A98809F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difference between point and nonpoint pollu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228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.R.Hawkins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iversity of Rhode Island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Fall 2009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 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nt source pollution comes from an identifiable, specific 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h as a pi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pollution from industry or municipal waste treatment (sewage treatmen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92560" y="1981080"/>
            <a:ext cx="29210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point 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lution that comes from many different sources and cannot be traced back to one identifiable sour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lution from associated with storm water or runo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 of nonpoint source poll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&amp; grease from c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ss clipp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tic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wage &amp; cleaners from bo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hold cleaning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iz - Is this a point or nonpoint sourc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245124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304776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486400" y="4191120"/>
            <a:ext cx="178128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95280" y="1955880"/>
            <a:ext cx="2292480" cy="1473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34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800" y="57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7000" y="57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58:49Z</dcterms:created>
  <dc:creator>Mona Florea</dc:creator>
  <dc:description/>
  <dc:language>en-US</dc:language>
  <cp:lastModifiedBy>Mona Florea</cp:lastModifiedBy>
  <dcterms:modified xsi:type="dcterms:W3CDTF">2009-12-14T00:19:50Z</dcterms:modified>
  <cp:revision>2</cp:revision>
  <dc:subject/>
  <dc:title>What is the difference between point and nonpoint pollution?</dc:title>
</cp:coreProperties>
</file>